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C7B-2C87-453D-877E-3F802669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1A8-13A8-4851-9328-B64F0CD5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D70-537B-4419-A6D9-65B0BA85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02A-F6DA-4478-8E5B-235A7E7A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FD9-C332-4A00-9B1C-6AFEA22C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E95-A56B-40BD-8E49-66725BEA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0EF-13E4-48AE-9F72-BDA89F2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386-FE2A-4098-9518-FA8C86E1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348-20AD-43A0-BA64-216F168D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CAA-6579-4475-8DCA-4EAC73FE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1B1-E43F-480B-9D77-FFB0AFD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ADA-61D8-465F-963E-08F4CDA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A55C-97B8-4D25-B7F6-A10BCAB9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Clase 7 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8 de octubre del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Propósito # 16:</a:t>
            </a: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Qué esta haciendo el agente de la aduan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p. 93 (1-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avión aterriza cuando empieza el vue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pasajeros reclaman su equipaje a bordo del av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sistentes de vuelo conocen muy bien a todos los pasajeros porque son su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avión despega cuando llega a su desti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gentes de la línea aérea que trabajan en el mostrador en el aeropuerto son miembros de la tripul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uelo internacional es un vuelo que va a un país extranj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es son los miembros de la tripul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inspecciona el equipa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ués que desembarcan, ¿Qué tienen que hacer los pasaje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enes pasan por el control de segur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 los siguientes verbos en el presente progres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la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488280"/>
        </p:xfrm>
        <a:graphic>
          <a:graphicData uri="http://schemas.openxmlformats.org/drawingml/2006/table">
            <a:tbl>
              <a:tblPr/>
              <a:tblGrid>
                <a:gridCol w="2133720"/>
                <a:gridCol w="2438280"/>
                <a:gridCol w="2286000"/>
                <a:gridCol w="22860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r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ar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cla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cer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con la forma correcta del presente progre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lumnos ______________ a la profesora. (escuch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u ____________ a conjugar. (apre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_ español. (estudi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éctor ______________ a Madrid. (part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 para el equipaje. (reclam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pasajeros _____________ el avión. (embar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sistente _____________ al pasajero. (ayu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_____________ ahora? (ha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__ un equipaje de mano pequeño. (tra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 familia __________________ al aeropuerto para ir a casa. (ven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¾ on WEDNESDA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ort vocabular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 Progre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gs. 87-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3:55:28Z</dcterms:created>
  <dc:creator>Helen Zumaeta</dc:creator>
  <dc:description/>
  <dc:language>en-US</dc:language>
  <cp:lastModifiedBy>Helen Zumaeta</cp:lastModifiedBy>
  <dcterms:modified xsi:type="dcterms:W3CDTF">2011-10-28T19:06:54Z</dcterms:modified>
  <cp:revision>4</cp:revision>
  <dc:subject/>
  <dc:title>Me llamo _________     Clase 7 IM La fecha es el 28 de octubre del 2011</dc:title>
</cp:coreProperties>
</file>